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216-87FF-4053-8A60-D976BA1D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F5B2-69B0-463C-AEBC-AD1A06FD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7DB-EACE-4BF7-A1C0-AAD703C2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A41-77A1-41C9-B54A-32BCD451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C21A-A482-48B1-A403-8BEFC304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030D-441C-4754-AC01-0B1EFF27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4BFD-8621-4B30-BCAF-8FFBF36B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18AF-DD03-4A8D-9804-9B34D6FA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04ED-4B1D-4060-A302-5DD27CC2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D079-458F-4B34-8564-596BE1FA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006E-C8C0-44A7-91B0-87E9E8F9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C07-F4C8-41BD-8A8A-BFCBB49F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48E0-B339-4303-A716-F079078C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240D-16E2-4BB1-AD60-32ACE3BF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B4E4-D15F-4316-8194-8A0B4AD4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81BD-AE29-4603-9EE5-34AF001C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E864-C2EB-4892-A58C-1A7E101C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68A-7903-4B25-B997-14F71FF2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FBF-F248-4682-826A-AA86A777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214-314B-40E2-8468-315B076B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AB4-823D-416C-9653-B3502461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A48-36E0-49C5-B691-AF966592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B2A-A993-4233-A701-054E1E37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94D-0D20-4094-93ED-CFF1BA8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536E-1E66-4ACB-A435-EDF3BBFD41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BF5C-FFBC-45D5-AE3A-A57785B8DC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r, We Would See Jesus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rter 9, Lesson 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 4:35-41, 5:1-43; Matt. 9:27-3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ges 60-6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4FFB-0771-4E1E-9BA5-AF47D83DB76B}" type="slidenum">
              <a:t>1</a:t>
            </a:fld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sus Heals The Bleeding Woma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5:25-34; Matt. 9:18-22; Luke 8:43-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how this woman met J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howed her great fai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Jesus react to her touching His cloth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4C7-09F6-4E90-92F0-ECE500D0002F}" type="slidenum">
              <a:t>10</a:t>
            </a:fld>
          </a:p>
        </p:txBody>
      </p:sp>
    </p:spTree>
  </p:cSld>
  <p:transition>
    <p:cover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sus Heals Jairus’ Daught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5:21-24, 35-43; Matt. 9:23-26; Luke 8:41-5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Back to Jairus’ daugh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Jesus told as he approached the ho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how the miracle was per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658-E478-4698-8123-D6EB627824F7}" type="slidenum">
              <a:t>11</a:t>
            </a:fld>
          </a:p>
        </p:txBody>
      </p:sp>
    </p:spTree>
  </p:cSld>
  <p:transition>
    <p:cover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sus Heals Two Blind Me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. 9:27-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the circumstances of this mira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Jesus do to give them s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47F-C0C2-443F-BC7C-FD06B2D94CFC}" type="slidenum">
              <a:t>12</a:t>
            </a:fld>
          </a:p>
        </p:txBody>
      </p:sp>
    </p:spTree>
  </p:cSld>
  <p:transition>
    <p:cover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sus Heals A Mute Demoniac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. 9:32-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Jesus meet this m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as the multitude amaz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id the Pharisees say He got His pow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CEC7-4885-4D67-8770-587EB19BA625}" type="slidenum">
              <a:t>13</a:t>
            </a:fld>
          </a:p>
        </p:txBody>
      </p:sp>
    </p:spTree>
  </p:cSld>
  <p:transition>
    <p:cover dir="r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is lesson we learned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ha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ow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v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ements (wind and the se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an and his dev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’s sick 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674-902E-49F3-A068-98841276AF41}" type="slidenum">
              <a:t>14</a:t>
            </a:fld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ife of Chr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800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of 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ing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s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l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3200400"/>
            <a:ext cx="236232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350532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13E-8A56-48F3-B88B-4707C4E373CA}" type="slidenum">
              <a:t>2</a:t>
            </a:fld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is Less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performs many more mira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riety of health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fferent ways Jesus hea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miracles were accomp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the miracles were accomp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urpose of each mira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an was visibly active during the life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1D6-9150-4432-AAD5-D04B3BDED352}" type="slidenum">
              <a:t>3</a:t>
            </a:fld>
          </a:p>
        </p:txBody>
      </p:sp>
    </p:spTree>
  </p:cSld>
  <p:transition>
    <p:cover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sus Stills The Storm At Sea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4:35-41; Matt. 8:18, 23-27; Luke 8:22-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the setting for this mira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id He do to calm the stor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unique about this mirac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an this be, that even the wind and the sea obey Him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387-5036-48C6-A3B3-01019C0B47EF}" type="slidenum">
              <a:t>4</a:t>
            </a:fld>
          </a:p>
        </p:txBody>
      </p:sp>
    </p:spTree>
  </p:cSld>
  <p:transition>
    <p:cover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sus Heals The Demoniac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5:1-20; Matt. 8:28-34; Luke 8:26-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occasion when Jesus met the demoni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some of his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as this miracle accomplish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unique and powerful about this mirac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B5A-9226-4C34-9BD6-5E076971BCE7}" type="slidenum">
              <a:t>5</a:t>
            </a:fld>
          </a:p>
        </p:txBody>
      </p:sp>
    </p:spTree>
  </p:cSld>
  <p:transition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907-49C4-497F-BFE1-812891CA10F7}" type="slidenum">
              <a:t>6</a:t>
            </a:fld>
          </a:p>
        </p:txBody>
      </p:sp>
    </p:spTree>
  </p:cSld>
  <p:transition>
    <p:cover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se Dem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 equate to evil spir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intelligence and volition of their 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used various maladies i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mentioned in the Old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allowed Satan to let demons enter men during the period of His greatest outpouring of His power – the N. 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’s power always overcame the power of dem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FD7-D1C8-4903-9484-704FB0209850}" type="slidenum">
              <a:t>7</a:t>
            </a:fld>
          </a:p>
        </p:txBody>
      </p:sp>
    </p:spTree>
  </p:cSld>
  <p:transition>
    <p:cover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acteristics of Dem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talked to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 knew who Jesus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nsane person would have known Jesus was the Son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nsane person would request they not be sent to the aby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an will be cast into the abyss (Rev.20: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an is the Prince of the dev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920-4FB5-4A93-BA6B-2F62E8DD29BF}" type="slidenum">
              <a:t>8</a:t>
            </a:fld>
          </a:p>
        </p:txBody>
      </p:sp>
    </p:spTree>
  </p:cSld>
  <p:transition>
    <p:cover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sus Heals Jairus’ Daught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5:21-24, 35-43; Matt. 9:23-26; Luke 8:41-5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the setting for this mira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was Jes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as with hi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Jair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his request of Jes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did Jesus then g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779-7E35-4B93-93BE-8D4ABB2DB0DB}" type="slidenum">
              <a:t>9</a:t>
            </a:fld>
          </a:p>
        </p:txBody>
      </p:sp>
    </p:spTree>
  </p:cSld>
  <p:transition>
    <p:cover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04:42:13Z</dcterms:created>
  <dc:creator>Frank D Vines</dc:creator>
  <dc:description/>
  <dc:language>en-US</dc:language>
  <cp:lastModifiedBy>Frank D Vines</cp:lastModifiedBy>
  <dcterms:modified xsi:type="dcterms:W3CDTF">2006-09-03T13:36:5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